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24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media/image2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dt" idx="1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 type="sldNum" idx="1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70F7-201D-4B16-B11B-7A5B9B794B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AE02-71F8-4B6F-8FED-47DCCC2F76E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BE0B-00C5-4891-BD1A-9C2A96C42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D736-BAA1-476E-A371-FEC2C591AC3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8F8810-7E95-4A7B-B776-0257615B1C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B24D0-7366-4AA7-B4C1-59870169211A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D1BF38-35DC-4CD5-844D-EEEFC1DED7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CE541-D2B4-445A-9874-437B6054A10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E411C-38CA-411A-851B-36AA2C37282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6E76A-F3E8-41F8-8FB1-BED7DBBCA71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59A51-3137-46B5-B5B6-538978355F9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D268F-4729-4EC5-8932-190F1F064D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0FD6BC-5BB5-423D-A6E9-EC70C68EF57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7870E0-95A7-49C2-AB7B-505A46A07A50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72CFA-052B-42BD-9DA9-66624BB17F4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DF9EE8-81D3-4F83-9652-0E91D21450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D7258-A347-4449-B180-181D479E42B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2E489-F380-4E41-9574-E0898E5218C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871C1-E7AC-429B-83C2-9354DE06EF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4938-B280-4DFF-B78D-56C45515233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A1916-0C3D-4F44-83B1-9B55B99805D1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987B9-4440-4AB0-AF81-F4B33291E82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3F8C-D32A-4B0D-8FB3-C9A12B45EF23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77FF0-047F-45A1-ABD5-8C3070D4FB5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12131-B329-422F-B7F1-209934744EE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F668-A3CF-426B-A5F9-82BC732E7605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36E73-0867-4DE3-9FB0-548DFEDAB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1FFF-AA60-45E5-8BAD-69BA006D7AA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7985-F5EA-4D99-A518-AAEA70095B3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F7EE4-0383-45EC-8180-2727E86A2C6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B3BE-27DD-4229-B6CD-C1243C77938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22AE8E-A866-4313-9FA7-7E54B6E0C6F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BD526D-0B2E-47DE-B377-54D00F635B0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2539A8-72BE-4269-8604-8CC01D0E7C8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BFC0EB-A494-407A-8442-54622CA8F48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900447-B856-4E3C-B628-C1A397AC9E0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CBD3CD-CB4D-4DB0-9C86-7AF85D0B650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38BB7E-C6D1-4FB7-A607-366FBAE37B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080D-0C7D-4908-B148-A54EBF0A6A19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493AA5-2ED6-4E53-86E0-F23E39A62C8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F9894B-AE47-4BA5-B2CB-A6DB62EE3C2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1E007E-40E3-4D69-85DA-89161C058EC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A895B5-BA02-4A63-A37C-55A4F7B24B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70ED7C-D51C-4382-A375-336814CCD4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44EAB9-CF58-4197-AE2B-7D8B10075CC5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733B2-011B-45B0-B1A3-A3EC47EC994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0213B4-7237-4FCA-B453-D35A40FE601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BB2F60-7A2C-48D3-B28F-2254F55F646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31F25-CF06-4CAF-A79F-0452D6BE3A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991F9-DF4F-4B58-B877-6B989BB6E03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6EA52A-4D2C-4A0F-9323-BDEDBCB36C1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E20A16-3A5C-4213-A588-AF883F155315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56CA92-B303-4DAA-9A27-1AC20D492635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EE3291-D8A8-4865-85A1-7D54E19D5D1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E9FF6C-3A82-49A2-8135-A6A90251E94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62E15-2BC5-4E3C-8585-A056C8D54E1E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BA589F-E02E-48F1-AE35-F2DFCC3A74D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05353-1385-471A-8937-555A3E33696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76C0-F4AA-4A7E-AB05-6EACBFBC39AA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7939-7218-46B9-92A9-EAA77B3C5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BF68E-E0CD-49EB-A7F7-55F4028B39EE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C9795-A93D-438D-942F-3FF0E5FF82A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C0B66-B45D-4D80-BF88-6F9294750E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65685-4DBE-421D-B3A0-0A4D89D57E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8F94D-B91A-4ECC-8E7B-7275168DE1D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F64FB-0509-419C-B8B6-7846690CB984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45F15-75D8-4580-AE2F-8169685FF79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A8B2A-C521-483F-BCAB-BA2A6124B51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2B31-26A7-485D-B4F8-F28F4BAAF73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8D4A-283F-402C-A380-AEFDE70A46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E2ECE-8973-4ADF-9B54-33811A4D3F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6F9A7-D257-4A22-A015-44E04DD838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ADA60-FCBB-4B86-9CED-A10572817E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B87D9-BD2E-4998-A6A9-B1BDF1BB18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D854E-1CEB-4D3E-A17B-FD358B26CB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5EF9-B0B0-4EE2-9657-13C7FE08B0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A053F-7204-41F0-BFD1-6F20AD89DF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0E5CB-9746-4C49-BFA9-F8E8F0B115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06442-E84A-488C-97B9-B2CE95615D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B0B67-7C39-4B2E-8A80-DEBC1738DD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4C4D-596B-42C4-A182-26BDAF4D3B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EF4E-59A9-4141-947E-40763C69FC7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D9B-81CF-458D-AB1E-5A1E49B4A0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BB096-5719-43CE-A6E4-8525B82BFB2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9AF7-7AE5-4F1B-9CBE-A4327FBAB8A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AF0-E6F8-4845-828A-0BC5BF26179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361-9EA3-496F-B771-51E8C11B811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21F9-A917-40D7-B548-E865585C579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573C-E715-44FF-A5D1-853EF348DE4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7CF-CEA8-4035-99AF-EE4B1CB947F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588-3B51-4E9C-88E3-88D0F5D54F5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BDB2-7BEF-4327-BCC8-E65A1F521B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38B-8C97-4723-A8D1-BBCB2451113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38682-CCEB-428D-8B7B-7C93F3F580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CCA8-992F-45CC-854B-D62BD09C189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DC0DF-EA20-49C8-B4C6-44D2EDD1987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A851D-B45A-4E3A-A628-ECF22028D73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B409AC-FC94-42F4-BCD4-6D489C1FD0C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C7808-75A3-4F3E-AA48-B6CFD94BD4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CD747-1384-4D80-8858-07CC0D0D27F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A51F0-066B-4D26-866E-EFC16974042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EB7A53-7152-49AB-9138-19F077999CB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F8588-1211-439F-A56E-89D64215863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BE97E-56D5-46EA-8FF1-C53D3221B5F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AB22B-EE4C-4474-BDC0-E26013493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51B9-F4AA-4BFF-919C-2192A2CC5CC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1DC9D-30F1-4EE6-B9CC-6D005D2EF9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B42862-9173-4110-B148-B662D07D9BF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33775-BD03-4109-AEA1-932B4ADA923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146DA-EE3A-49B0-94E3-68626D7412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B0299-9AF0-4720-8749-560EB010E5F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5BF30-7B61-4440-86EB-0E6E09A0CFA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00911-EFBD-4FF0-B109-2793B2C47155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F0C1AC-85B7-483F-9D96-93B1A1895CC1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1C8263-7965-47A6-A6A5-A902651248F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D22E1C-AA31-45C7-88BF-15FF84ACE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2A18-CFB9-4940-BFCF-2B0CCDA2A3D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8D7FA-E6CA-41AD-B29F-BAD612B5802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9A2BB-C390-4F6A-8764-4509074FA9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869DA-A124-47D0-B2B9-90E56AC79E6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56E-BD5C-4D55-9965-40AC831BD6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F784-CFC7-4996-BC75-0040E498733C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BFAD4-8C74-41D9-9C7F-007C8CDB3F5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D8D-9BB9-4D3D-AD5A-175CAF782DDF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8D4A-C123-4A25-9917-30451DD8E1A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B3E2-83B4-4DC1-8D1B-5D9E589E9A9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3FCF-084D-4B6C-9F8C-C2E26709B3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EC76-37A7-44DB-A3E1-71A4C7E3B9B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C668-060C-4814-A933-5760E10A9DA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29E3-06D0-4B40-9283-1619836B3BD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818A-DCD7-4879-9B00-43CD64A4EC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CA93-94FB-44CF-AD43-9D11D616E9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B060-933F-43CB-8139-6AC73E75C1D8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DF9732-17CE-4F09-9737-20C872235BE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00964-D991-4DE3-96DB-11ABC12EFB3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8120BF-0449-427B-9F65-AE8E92C0D3A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6EE6F2-364E-49A9-B186-47FA08068BE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BAB1AC-8E5C-4DAB-8C04-102BAFDE4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2652-A71D-4424-AFE5-E7E7A62F51D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F75905-C8AC-44FF-93A8-1037C59B9DE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E6D34-7172-4DF9-BD59-B5F8A5877B9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8C75D3-90ED-48E4-8E5C-F2F55DE6D36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B7AFA3-D504-4445-91DF-AC6280B498B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B52E15-0622-4A87-8DA6-C0FF552478B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29C29D-6208-4B6E-B073-294F722DE1C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5E5BA9-792E-4670-A490-BA5D5E4CD95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slide" Target="slide9.xm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9.xml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image" Target="../media/image2.png"/><Relationship Id="rId5" Type="http://schemas.openxmlformats.org/officeDocument/2006/relationships/slide" Target="slide1.xm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70C3-208F-4C8B-A1AD-2B6AE9E0F9FD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Num" idx="8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D12C-6FF1-4672-A024-EC6FE40B1B60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53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Прямоугольник 9">
            <a:hlinkClick r:id="rId5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Num" idx="9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6EF-ABD6-465D-A1F2-AFEFA794F206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499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Num" idx="10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D3D0-7E74-418B-B6CB-163518AADA5E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Num" idx="11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FDD4-0576-4A90-9981-B124C513FA95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7" descr="Logo_mini.png"/>
          <p:cNvPicPr/>
          <p:nvPr/>
        </p:nvPicPr>
        <p:blipFill>
          <a:blip r:embed="rId3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591" name="Прямоугольник 8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Num" idx="1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9195-38D0-428D-92EE-D23A04648CCC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66404-42B1-42C4-B813-36619364CBEB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3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2">
            <a:hlinkClick r:id="rId2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8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Num" idx="3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BB69E-C1EA-45F5-BC7C-60FCD5B5570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179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Num" idx="4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714F2-C290-49BC-B41E-9BA91663C84C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Num" idx="5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1480-B79E-47FC-8219-EBF42E8A05AF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Num" idx="6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D5A3C-1482-4D4C-BBE1-55935063BB3D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2">
            <a:hlinkClick r:id="rId3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Прямоугольник 3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Рисунок 7" descr="Logo_mini.png"/>
          <p:cNvPicPr/>
          <p:nvPr/>
        </p:nvPicPr>
        <p:blipFill>
          <a:blip r:embed="rId4"/>
          <a:stretch/>
        </p:blipFill>
        <p:spPr>
          <a:xfrm>
            <a:off x="8172360" y="223920"/>
            <a:ext cx="647640" cy="676080"/>
          </a:xfrm>
          <a:prstGeom prst="rect">
            <a:avLst/>
          </a:prstGeom>
          <a:ln w="0">
            <a:noFill/>
          </a:ln>
        </p:spPr>
      </p:pic>
      <p:sp>
        <p:nvSpPr>
          <p:cNvPr id="317" name="Прямоугольник 8">
            <a:hlinkClick r:id="rId5" action="ppaction://hlinksldjump"/>
          </p:cNvPr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Прямоугольник 9"/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10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11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Num" idx="7"/>
          </p:nvPr>
        </p:nvSpPr>
        <p:spPr>
          <a:xfrm>
            <a:off x="-36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80A8-B640-487F-9EA6-D58C9374E8E3}" type="slidenum">
              <a:rPr b="1" lang="ru-RU" sz="20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Прямоугольник 2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3">
            <a:hlinkClick r:id="rId2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4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7"/>
          <p:cNvSpPr/>
          <p:nvPr/>
        </p:nvSpPr>
        <p:spPr>
          <a:xfrm>
            <a:off x="7093080" y="6561000"/>
            <a:ext cx="358560" cy="29556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8">
            <a:hlinkClick r:id="rId3" action="ppaction://hlinksldjump"/>
          </p:cNvPr>
          <p:cNvSpPr/>
          <p:nvPr/>
        </p:nvSpPr>
        <p:spPr>
          <a:xfrm>
            <a:off x="7515360" y="65563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оугольник 9"/>
          <p:cNvSpPr/>
          <p:nvPr/>
        </p:nvSpPr>
        <p:spPr>
          <a:xfrm>
            <a:off x="7924680" y="6558120"/>
            <a:ext cx="3603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10"/>
          <p:cNvSpPr/>
          <p:nvPr/>
        </p:nvSpPr>
        <p:spPr>
          <a:xfrm>
            <a:off x="8348760" y="6558120"/>
            <a:ext cx="358560" cy="295200"/>
          </a:xfrm>
          <a:prstGeom prst="rect">
            <a:avLst/>
          </a:prstGeom>
          <a:solidFill>
            <a:srgbClr val="ffffd4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Прямоугольник 6"/>
          <p:cNvSpPr/>
          <p:nvPr/>
        </p:nvSpPr>
        <p:spPr>
          <a:xfrm>
            <a:off x="0" y="-214200"/>
            <a:ext cx="9144000" cy="7072200"/>
          </a:xfrm>
          <a:prstGeom prst="rect">
            <a:avLst/>
          </a:prstGeom>
          <a:solidFill>
            <a:srgbClr val="feff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Прямоугольник 1"/>
          <p:cNvSpPr/>
          <p:nvPr/>
        </p:nvSpPr>
        <p:spPr>
          <a:xfrm>
            <a:off x="938160" y="2116080"/>
            <a:ext cx="7101000" cy="40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Руководитель филиала ФГБУ «Россельхоз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по Красноярскому краю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Малинников Алексей Валентинович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4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954360" cy="955800"/>
          </a:xfrm>
          <a:prstGeom prst="rect">
            <a:avLst/>
          </a:prstGeom>
          <a:ln w="0">
            <a:noFill/>
          </a:ln>
        </p:spPr>
      </p:pic>
      <p:sp>
        <p:nvSpPr>
          <p:cNvPr id="642" name="TextBox 1"/>
          <p:cNvSpPr/>
          <p:nvPr/>
        </p:nvSpPr>
        <p:spPr>
          <a:xfrm>
            <a:off x="1535040" y="2984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Министерство сельского хозяйства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Российской Федерации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2"/>
          <p:cNvSpPr/>
          <p:nvPr/>
        </p:nvSpPr>
        <p:spPr>
          <a:xfrm>
            <a:off x="1500120" y="1071720"/>
            <a:ext cx="660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Федеральное государственное бюджетное учреждение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«Российский сельскохозяйственный центр»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(ФГБУ «Россельхозцентр»)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Рисунок 3" descr=""/>
          <p:cNvPicPr/>
          <p:nvPr/>
        </p:nvPicPr>
        <p:blipFill>
          <a:blip r:embed="rId2"/>
          <a:stretch/>
        </p:blipFill>
        <p:spPr>
          <a:xfrm>
            <a:off x="214200" y="1214280"/>
            <a:ext cx="984240" cy="928800"/>
          </a:xfrm>
          <a:prstGeom prst="rect">
            <a:avLst/>
          </a:prstGeom>
          <a:ln w="0">
            <a:noFill/>
          </a:ln>
        </p:spPr>
      </p:pic>
      <p:sp>
        <p:nvSpPr>
          <p:cNvPr id="645" name="Номер слайда 1"/>
          <p:cNvSpPr/>
          <p:nvPr/>
        </p:nvSpPr>
        <p:spPr>
          <a:xfrm>
            <a:off x="0" y="6558120"/>
            <a:ext cx="539640" cy="1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"/>
          <p:cNvSpPr/>
          <p:nvPr/>
        </p:nvSpPr>
        <p:spPr>
          <a:xfrm>
            <a:off x="4031280" y="585144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апрель 2022 г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9"/>
          <p:cNvSpPr/>
          <p:nvPr/>
        </p:nvSpPr>
        <p:spPr>
          <a:xfrm>
            <a:off x="1619280" y="2349360"/>
            <a:ext cx="705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6228"/>
                </a:solidFill>
                <a:latin typeface="Arial"/>
              </a:rPr>
              <a:t>Тема: Предварительный прогноз фитосанитарного состояния сельскохозяйственных угодий на территории Красноярского края в 2022 году. Обзор качества семян, предназначенных для посева в 2022 году в хозяйствах Красноярского края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07640" y="189000"/>
            <a:ext cx="7559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добор урожая зерновых культур от вредителей и болезней в 2021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0" y="1125360"/>
          <a:ext cx="9036000" cy="5465880"/>
        </p:xfrm>
        <a:graphic>
          <a:graphicData uri="http://schemas.openxmlformats.org/drawingml/2006/table">
            <a:tbl>
              <a:tblPr/>
              <a:tblGrid>
                <a:gridCol w="2556000"/>
                <a:gridCol w="1152360"/>
                <a:gridCol w="1150920"/>
                <a:gridCol w="1081080"/>
                <a:gridCol w="1150920"/>
                <a:gridCol w="1044720"/>
                <a:gridCol w="900000"/>
              </a:tblGrid>
              <a:tr h="371520">
                <a:tc rowSpan="2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ВО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6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обор урожая, %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5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реднемноголетний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 краю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точ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централь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апад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южные районы</a:t>
                      </a:r>
                      <a:endParaRPr b="0" i="1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редител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нутристеблевые вредител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шеничный три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лаковая тл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 gridSpan="7"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зни</a:t>
                      </a:r>
                      <a:r>
                        <a:rPr b="1" lang="ru-RU" sz="1600" spc="-1" strike="noStrike">
                          <a:solidFill>
                            <a:srgbClr val="dce6f2"/>
                          </a:solidFill>
                          <a:latin typeface="Times New Roman"/>
                          <a:ea typeface="Calibri"/>
                        </a:rPr>
                        <a:t>….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пториоз пшеницы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рневые гнили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ельминтоспориоз ячмен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 ячмень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2" name="Прямоугольник 3"/>
          <p:cNvSpPr/>
          <p:nvPr/>
        </p:nvSpPr>
        <p:spPr>
          <a:xfrm>
            <a:off x="7093080" y="1484280"/>
            <a:ext cx="1008000" cy="511344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9041-C433-4E5E-8E4D-D5C456C34E29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0" y="189000"/>
            <a:ext cx="7956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вредителей и болезней в Красноярском крае в 2011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Диаграмма 3" descr=""/>
          <p:cNvPicPr/>
          <p:nvPr/>
        </p:nvPicPr>
        <p:blipFill>
          <a:blip r:embed="rId1"/>
          <a:stretch/>
        </p:blipFill>
        <p:spPr>
          <a:xfrm>
            <a:off x="390600" y="1195560"/>
            <a:ext cx="8429400" cy="5260680"/>
          </a:xfrm>
          <a:prstGeom prst="rect">
            <a:avLst/>
          </a:prstGeom>
          <a:ln w="0">
            <a:noFill/>
          </a:ln>
        </p:spPr>
      </p:pic>
      <p:sp>
        <p:nvSpPr>
          <p:cNvPr id="696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163E7-78E9-418D-A0F1-0931941F9D98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 txBox="1"/>
          <p:nvPr/>
        </p:nvSpPr>
        <p:spPr>
          <a:xfrm>
            <a:off x="0" y="189000"/>
            <a:ext cx="8143920" cy="66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imes New Roman"/>
              </a:rPr>
              <a:t>Засоренность посевов сельскохозяйственных культур наиболее распространенными в крае сорняками в 2021 году по группам район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79280" y="857160"/>
          <a:ext cx="8785440" cy="5983200"/>
        </p:xfrm>
        <a:graphic>
          <a:graphicData uri="http://schemas.openxmlformats.org/drawingml/2006/table">
            <a:tbl>
              <a:tblPr/>
              <a:tblGrid>
                <a:gridCol w="3097440"/>
                <a:gridCol w="1582560"/>
                <a:gridCol w="1081080"/>
                <a:gridCol w="1079640"/>
                <a:gridCol w="1008000"/>
                <a:gridCol w="936720"/>
              </a:tblGrid>
              <a:tr h="21024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сорного растения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эфициент засоренности в крае 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 т.ч. по группам районов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аль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жные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роколистн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ь бел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маренник  цепки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шка вьюнков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 татарская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т розовый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ьюнок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рица запрокинут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опля сорная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истник цикутов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щ полево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уванчик лекарст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тушья сумка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0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45160">
                <a:tc gridSpan="6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ковые</a:t>
                      </a:r>
                      <a:endParaRPr b="0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сюг обыкновенны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6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сорно-полев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о курино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8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етинники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5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ырей ползучий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699" name="Прямоугольник 3"/>
          <p:cNvSpPr/>
          <p:nvPr/>
        </p:nvSpPr>
        <p:spPr>
          <a:xfrm>
            <a:off x="7020000" y="1052640"/>
            <a:ext cx="1008000" cy="5805360"/>
          </a:xfrm>
          <a:prstGeom prst="rect">
            <a:avLst/>
          </a:prstGeom>
          <a:noFill/>
          <a:ln w="76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43A0-5D24-49F2-948E-6B9D91B700F1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107640" y="189000"/>
            <a:ext cx="7272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обработок посевов сельскохозяйственных культур от сорняков в Красноярском крае в 2011-2021г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2" name="Диаграмма 7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407200"/>
          </a:xfrm>
          <a:prstGeom prst="rect">
            <a:avLst/>
          </a:prstGeom>
          <a:ln w="0">
            <a:noFill/>
          </a:ln>
        </p:spPr>
      </p:pic>
      <p:sp>
        <p:nvSpPr>
          <p:cNvPr id="703" name="Номер слайда 3"/>
          <p:cNvSpPr/>
          <p:nvPr/>
        </p:nvSpPr>
        <p:spPr>
          <a:xfrm>
            <a:off x="0" y="664056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2806-1717-484C-A6F5-7F5D559AA957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323640" y="5084280"/>
            <a:ext cx="8569080" cy="34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из них доля препаратов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-360" y="189000"/>
            <a:ext cx="7326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оступления пестицидов в Красноярском крае в 2021 году, тон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Диаграмма 5" descr=""/>
          <p:cNvPicPr/>
          <p:nvPr/>
        </p:nvPicPr>
        <p:blipFill>
          <a:blip r:embed="rId1"/>
          <a:stretch/>
        </p:blipFill>
        <p:spPr>
          <a:xfrm>
            <a:off x="1401840" y="981000"/>
            <a:ext cx="6267240" cy="3743280"/>
          </a:xfrm>
          <a:prstGeom prst="rect">
            <a:avLst/>
          </a:prstGeom>
          <a:ln w="0">
            <a:noFill/>
          </a:ln>
        </p:spPr>
      </p:pic>
      <p:pic>
        <p:nvPicPr>
          <p:cNvPr id="707" name="Диаграмма 7" descr=""/>
          <p:cNvPicPr/>
          <p:nvPr/>
        </p:nvPicPr>
        <p:blipFill>
          <a:blip r:embed="rId2"/>
          <a:stretch/>
        </p:blipFill>
        <p:spPr>
          <a:xfrm>
            <a:off x="1401840" y="5443560"/>
            <a:ext cx="5730840" cy="1231920"/>
          </a:xfrm>
          <a:prstGeom prst="rect">
            <a:avLst/>
          </a:prstGeom>
          <a:ln w="0">
            <a:noFill/>
          </a:ln>
        </p:spPr>
      </p:pic>
      <p:sp>
        <p:nvSpPr>
          <p:cNvPr id="70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0C4B-AFC7-457F-B3E1-6C50115F90C1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\\192.168.10.4\файлообменник\Фото\Фото для А.В. Малинникова\IMG_20210812_140202.jpg"/>
          <p:cNvPicPr/>
          <p:nvPr/>
        </p:nvPicPr>
        <p:blipFill>
          <a:blip r:embed="rId1"/>
          <a:srcRect l="6823" t="0" r="9239" b="0"/>
          <a:stretch/>
        </p:blipFill>
        <p:spPr>
          <a:xfrm>
            <a:off x="-7920" y="0"/>
            <a:ext cx="3763800" cy="3357720"/>
          </a:xfrm>
          <a:prstGeom prst="rect">
            <a:avLst/>
          </a:prstGeom>
          <a:ln w="0">
            <a:noFill/>
          </a:ln>
        </p:spPr>
      </p:pic>
      <p:sp>
        <p:nvSpPr>
          <p:cNvPr id="710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7FE2-02F1-4A04-81A1-AA20AB5E16DC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4" descr="\\192.168.10.4\файлообменник\Фото\Фото для А.В. Малинникова\c5bdc342-3b4c-4b62-a764-76cb76795efd.jpg"/>
          <p:cNvPicPr/>
          <p:nvPr/>
        </p:nvPicPr>
        <p:blipFill>
          <a:blip r:embed="rId2"/>
          <a:srcRect l="0" t="0" r="0" b="4761"/>
          <a:stretch/>
        </p:blipFill>
        <p:spPr>
          <a:xfrm>
            <a:off x="-36360" y="3357720"/>
            <a:ext cx="3676320" cy="35002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 txBox="1"/>
          <p:nvPr/>
        </p:nvSpPr>
        <p:spPr>
          <a:xfrm>
            <a:off x="-36360" y="6597360"/>
            <a:ext cx="1800000" cy="26028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стадные саранчовы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 txBox="1"/>
          <p:nvPr/>
        </p:nvSpPr>
        <p:spPr>
          <a:xfrm>
            <a:off x="1834920" y="4941720"/>
            <a:ext cx="208908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бабоч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801800" y="6629040"/>
            <a:ext cx="1944720" cy="2286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уговой мотылек, гусениц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3" descr="\\192.168.10.4\файлообменник\Фото\Фото для А.В. Малинникова\9d7a818d-e718-4850-9f1c-bcde6f7d7cb7.jpg"/>
          <p:cNvPicPr/>
          <p:nvPr/>
        </p:nvPicPr>
        <p:blipFill>
          <a:blip r:embed="rId3"/>
          <a:srcRect l="0" t="0" r="0" b="2093"/>
          <a:stretch/>
        </p:blipFill>
        <p:spPr>
          <a:xfrm>
            <a:off x="3630600" y="1460520"/>
            <a:ext cx="5513400" cy="5397480"/>
          </a:xfrm>
          <a:prstGeom prst="rect">
            <a:avLst/>
          </a:prstGeom>
          <a:ln w="0">
            <a:noFill/>
          </a:ln>
        </p:spPr>
      </p:pic>
      <p:sp>
        <p:nvSpPr>
          <p:cNvPr id="716" name=""/>
          <p:cNvSpPr txBox="1"/>
          <p:nvPr/>
        </p:nvSpPr>
        <p:spPr>
          <a:xfrm>
            <a:off x="385092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епто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659280" y="3933720"/>
            <a:ext cx="2165400" cy="2253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Мучнистая р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5508360" y="6630480"/>
            <a:ext cx="21589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узариоз колоса пшениц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7667640" y="6630480"/>
            <a:ext cx="151272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Альтернариоз рапс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3638160" y="6630480"/>
            <a:ext cx="1870200" cy="22716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Септориоз листа пшеницы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539640" y="314172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псовый цветое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3" descr="\\192.168.10.4\файлообменник\Фото\Фото для А.В. Малинникова\Красноярский край, Каратузский р-он, клоп вредной черепашки, июнь 2020г..jpg"/>
          <p:cNvPicPr/>
          <p:nvPr/>
        </p:nvPicPr>
        <p:blipFill>
          <a:blip r:embed="rId4"/>
          <a:srcRect l="38703" t="32916" r="22595" b="8001"/>
          <a:stretch/>
        </p:blipFill>
        <p:spPr>
          <a:xfrm>
            <a:off x="3708360" y="0"/>
            <a:ext cx="1800360" cy="1512720"/>
          </a:xfrm>
          <a:prstGeom prst="rect">
            <a:avLst/>
          </a:prstGeom>
          <a:ln w="0">
            <a:noFill/>
          </a:ln>
        </p:spPr>
      </p:pic>
      <p:pic>
        <p:nvPicPr>
          <p:cNvPr id="723" name="Picture 4" descr="\\192.168.10.4\файлообменник\Фото\Фото для А.В. Малинникова\Красноярский край , Новосёловский район, яровой рапс, гусеница капустной моли, июль 2019г..jpg"/>
          <p:cNvPicPr/>
          <p:nvPr/>
        </p:nvPicPr>
        <p:blipFill>
          <a:blip r:embed="rId5"/>
          <a:srcRect l="30334" t="25687" r="13933" b="32042"/>
          <a:stretch/>
        </p:blipFill>
        <p:spPr>
          <a:xfrm>
            <a:off x="5508720" y="0"/>
            <a:ext cx="2609640" cy="148428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 txBox="1"/>
          <p:nvPr/>
        </p:nvSpPr>
        <p:spPr>
          <a:xfrm>
            <a:off x="5724360" y="1268280"/>
            <a:ext cx="216072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Гусеница капустной мол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3708000" y="1268280"/>
            <a:ext cx="1800360" cy="216000"/>
          </a:xfrm>
          <a:prstGeom prst="rect">
            <a:avLst/>
          </a:prstGeom>
          <a:solidFill>
            <a:srgbClr val="ddf5f7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лоп вредная черепаш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2" descr="https://cstor.nn2.ru/blog/data/blog/2022-01/3295014_1641483942.jpg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5794200"/>
          </a:xfrm>
          <a:prstGeom prst="rect">
            <a:avLst/>
          </a:prstGeom>
          <a:ln w="0">
            <a:noFill/>
          </a:ln>
        </p:spPr>
      </p:pic>
      <p:sp>
        <p:nvSpPr>
          <p:cNvPr id="727" name=""/>
          <p:cNvSpPr txBox="1"/>
          <p:nvPr/>
        </p:nvSpPr>
        <p:spPr>
          <a:xfrm>
            <a:off x="468360" y="1125000"/>
            <a:ext cx="799128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Прямоугольник 5"/>
          <p:cNvGrpSpPr/>
          <p:nvPr/>
        </p:nvGrpSpPr>
        <p:grpSpPr>
          <a:xfrm>
            <a:off x="4486320" y="4565520"/>
            <a:ext cx="4743360" cy="2401920"/>
            <a:chOff x="4486320" y="4565520"/>
            <a:chExt cx="4743360" cy="2401920"/>
          </a:xfrm>
        </p:grpSpPr>
        <p:pic>
          <p:nvPicPr>
            <p:cNvPr id="729" name="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4486320" y="4565520"/>
              <a:ext cx="47433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0" name=""/>
            <p:cNvSpPr/>
            <p:nvPr/>
          </p:nvSpPr>
          <p:spPr>
            <a:xfrm>
              <a:off x="4716360" y="4797360"/>
              <a:ext cx="4283280" cy="19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Филиал ФГБУ «Россельхозцентр» по Красноярскому краю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г. Красноярск. Сурикова, 54 «В»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Тел. +7(391) 227-74-96,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E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-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:</a:t>
              </a:r>
              <a:r>
                <a:rPr b="1" i="1" lang="ru-RU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0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krstazr@</a:t>
              </a:r>
              <a:r>
                <a:rPr b="1" i="1" lang="en-US" sz="20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mail</a:t>
              </a:r>
              <a:r>
                <a:rPr b="1" i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.</a:t>
              </a:r>
              <a:r>
                <a:rPr b="1" i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www.r</a:t>
              </a:r>
              <a:r>
                <a:rPr b="1" lang="ru-RU" sz="2000" spc="-1" strike="noStrike">
                  <a:solidFill>
                    <a:srgbClr val="17375e"/>
                  </a:solidFill>
                  <a:latin typeface="Times New Roman"/>
                  <a:ea typeface="Times New Roman"/>
                </a:rPr>
                <a:t>sc024.ru</a:t>
              </a:r>
              <a:endParaRPr b="0" i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BADA-0A2C-4E50-92C5-024873869F62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190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ртовые посевы яровых зерновых и зернобобовых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ультур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-214200" y="285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1" name=""/>
          <p:cNvGraphicFramePr/>
          <p:nvPr/>
        </p:nvGraphicFramePr>
        <p:xfrm>
          <a:off x="324000" y="1268280"/>
          <a:ext cx="8640720" cy="5081760"/>
        </p:xfrm>
        <a:graphic>
          <a:graphicData uri="http://schemas.openxmlformats.org/drawingml/2006/table">
            <a:tbl>
              <a:tblPr/>
              <a:tblGrid>
                <a:gridCol w="2855880"/>
                <a:gridCol w="1244520"/>
                <a:gridCol w="1171440"/>
                <a:gridCol w="1098720"/>
                <a:gridCol w="1171440"/>
                <a:gridCol w="109872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830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яровых зерновых, зернобобовых и крупяных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,3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,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2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9,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654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0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2" name="Номер слайда 5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6A19F-7D62-463D-A1CB-5039C3EF40ED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250920" y="1160640"/>
            <a:ext cx="8208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232920" y="1646280"/>
            <a:ext cx="82090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239400" y="2079720"/>
            <a:ext cx="820908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07640" y="189000"/>
            <a:ext cx="721836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евы масличных культур, в том числе рапса в Красноярском крае 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7" name=""/>
          <p:cNvGraphicFramePr/>
          <p:nvPr/>
        </p:nvGraphicFramePr>
        <p:xfrm>
          <a:off x="144360" y="1068480"/>
          <a:ext cx="8891640" cy="5491080"/>
        </p:xfrm>
        <a:graphic>
          <a:graphicData uri="http://schemas.openxmlformats.org/drawingml/2006/table">
            <a:tbl>
              <a:tblPr/>
              <a:tblGrid>
                <a:gridCol w="3384720"/>
                <a:gridCol w="1224000"/>
                <a:gridCol w="1079280"/>
                <a:gridCol w="1033560"/>
                <a:gridCol w="1165320"/>
                <a:gridCol w="10047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032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еяно масличных культур всего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113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11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 всего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1112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. ч.рапса</a:t>
                      </a:r>
                      <a:br>
                        <a:rPr sz="20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 (19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 (2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58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7FCE-0186-40BC-9233-F35DF230CF8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178920" y="189000"/>
            <a:ext cx="714708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ртовые посадки картофеля в Красноярском кра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 2017-2021г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0" name=""/>
          <p:cNvGraphicFramePr/>
          <p:nvPr/>
        </p:nvGraphicFramePr>
        <p:xfrm>
          <a:off x="250920" y="1125360"/>
          <a:ext cx="8642160" cy="4524480"/>
        </p:xfrm>
        <a:graphic>
          <a:graphicData uri="http://schemas.openxmlformats.org/drawingml/2006/table">
            <a:tbl>
              <a:tblPr/>
              <a:tblGrid>
                <a:gridCol w="3024000"/>
                <a:gridCol w="1225800"/>
                <a:gridCol w="1066680"/>
                <a:gridCol w="1108080"/>
                <a:gridCol w="1065240"/>
                <a:gridCol w="1152360"/>
              </a:tblGrid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казатели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8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9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192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ажено 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ртофеля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5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41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15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890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сортовых, тыс. тонн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0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44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464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сортовых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6248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импортных сортов</a:t>
                      </a:r>
                      <a:br>
                        <a:rPr sz="20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районированных)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 (50)</a:t>
                      </a:r>
                      <a:endParaRPr b="0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661" name="TextBox 6"/>
          <p:cNvSpPr/>
          <p:nvPr/>
        </p:nvSpPr>
        <p:spPr>
          <a:xfrm>
            <a:off x="468360" y="587700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актически весь картофель иностранной селекции производится в РФ, не более 2-3% завозится из-за рубежа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A1E9-F22B-47A9-B638-D66AC290828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7407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намика высева кондиционных семян яровых зерновых и зернобобовых культур в Красноярском крае за 2017-2021г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Диаграмма 5" descr=""/>
          <p:cNvPicPr/>
          <p:nvPr/>
        </p:nvPicPr>
        <p:blipFill>
          <a:blip r:embed="rId1"/>
          <a:stretch/>
        </p:blipFill>
        <p:spPr>
          <a:xfrm>
            <a:off x="469800" y="1407960"/>
            <a:ext cx="8350200" cy="4973760"/>
          </a:xfrm>
          <a:prstGeom prst="rect">
            <a:avLst/>
          </a:prstGeom>
          <a:ln w="0">
            <a:noFill/>
          </a:ln>
        </p:spPr>
      </p:pic>
      <p:sp>
        <p:nvSpPr>
          <p:cNvPr id="665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BAB7-6ACD-4646-BDA6-11E380AA67B4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 txBox="1"/>
          <p:nvPr/>
        </p:nvSpPr>
        <p:spPr>
          <a:xfrm>
            <a:off x="108000" y="189000"/>
            <a:ext cx="70754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семян яровых зерновых и зернобобовых культур, предназначенных для посева в 2022 г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539640" y="1052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Номер слайда 4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B56A-A435-46DA-9DE6-4B795A64558F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Прямая соединительная линия 8"/>
          <p:cNvSpPr/>
          <p:nvPr/>
        </p:nvSpPr>
        <p:spPr>
          <a:xfrm flipV="1">
            <a:off x="529272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Прямая соединительная линия 9"/>
          <p:cNvSpPr/>
          <p:nvPr/>
        </p:nvSpPr>
        <p:spPr>
          <a:xfrm flipV="1">
            <a:off x="241128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рямая соединительная линия 10"/>
          <p:cNvSpPr/>
          <p:nvPr/>
        </p:nvSpPr>
        <p:spPr>
          <a:xfrm flipV="1">
            <a:off x="3635280" y="5300640"/>
            <a:ext cx="571680" cy="571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Диаграмма 11" descr=""/>
          <p:cNvPicPr/>
          <p:nvPr/>
        </p:nvPicPr>
        <p:blipFill>
          <a:blip r:embed="rId1"/>
          <a:stretch/>
        </p:blipFill>
        <p:spPr>
          <a:xfrm>
            <a:off x="324000" y="1481040"/>
            <a:ext cx="8570880" cy="4687920"/>
          </a:xfrm>
          <a:prstGeom prst="rect">
            <a:avLst/>
          </a:prstGeom>
          <a:ln w="0">
            <a:noFill/>
          </a:ln>
        </p:spPr>
      </p:pic>
      <p:sp>
        <p:nvSpPr>
          <p:cNvPr id="673" name="Прямая соединительная линия 12"/>
          <p:cNvSpPr/>
          <p:nvPr/>
        </p:nvSpPr>
        <p:spPr>
          <a:xfrm flipV="1">
            <a:off x="1763640" y="5373360"/>
            <a:ext cx="571680" cy="571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Прямая соединительная линия 13"/>
          <p:cNvSpPr/>
          <p:nvPr/>
        </p:nvSpPr>
        <p:spPr>
          <a:xfrm flipV="1">
            <a:off x="2771640" y="5373720"/>
            <a:ext cx="716040" cy="719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108000" y="1160640"/>
            <a:ext cx="4248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ше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4572000" y="1197000"/>
            <a:ext cx="44640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c4c4c"/>
                </a:solidFill>
                <a:latin typeface="Times New Roman"/>
                <a:ea typeface="Times New Roman"/>
              </a:rPr>
              <a:t>ячмен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0" y="189000"/>
            <a:ext cx="802800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заболеваний семян зерновых культур урожая 2011-2021 годов в Красноярском крае, 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Chart 1" descr=""/>
          <p:cNvPicPr/>
          <p:nvPr/>
        </p:nvPicPr>
        <p:blipFill>
          <a:blip r:embed="rId1"/>
          <a:stretch/>
        </p:blipFill>
        <p:spPr>
          <a:xfrm>
            <a:off x="0" y="1841400"/>
            <a:ext cx="4572000" cy="3894120"/>
          </a:xfrm>
          <a:prstGeom prst="rect">
            <a:avLst/>
          </a:prstGeom>
          <a:ln w="0">
            <a:noFill/>
          </a:ln>
        </p:spPr>
      </p:pic>
      <p:pic>
        <p:nvPicPr>
          <p:cNvPr id="679" name="Chart 1" descr=""/>
          <p:cNvPicPr/>
          <p:nvPr/>
        </p:nvPicPr>
        <p:blipFill>
          <a:blip r:embed="rId2"/>
          <a:stretch/>
        </p:blipFill>
        <p:spPr>
          <a:xfrm>
            <a:off x="4638600" y="1841400"/>
            <a:ext cx="4505400" cy="3894120"/>
          </a:xfrm>
          <a:prstGeom prst="rect">
            <a:avLst/>
          </a:prstGeom>
          <a:ln w="0">
            <a:noFill/>
          </a:ln>
        </p:spPr>
      </p:pic>
      <p:sp>
        <p:nvSpPr>
          <p:cNvPr id="680" name="Номер слайда 7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1105-2809-4A3C-852B-0DCCB89E8304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 txBox="1"/>
          <p:nvPr/>
        </p:nvSpPr>
        <p:spPr>
          <a:xfrm>
            <a:off x="179280" y="189000"/>
            <a:ext cx="7632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раженность возбудителями корневых гнилей семян зерновых культур урожая 2021 года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Диаграмма 5" descr=""/>
          <p:cNvPicPr/>
          <p:nvPr/>
        </p:nvPicPr>
        <p:blipFill>
          <a:blip r:embed="rId1"/>
          <a:stretch/>
        </p:blipFill>
        <p:spPr>
          <a:xfrm>
            <a:off x="176040" y="1268280"/>
            <a:ext cx="8791920" cy="5113440"/>
          </a:xfrm>
          <a:prstGeom prst="rect">
            <a:avLst/>
          </a:prstGeom>
          <a:ln w="0">
            <a:noFill/>
          </a:ln>
        </p:spPr>
      </p:pic>
      <p:sp>
        <p:nvSpPr>
          <p:cNvPr id="683" name="Номер слайда 3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88A0-C369-4CF8-88F3-DB9AF0D966AA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107640" y="188640"/>
            <a:ext cx="705636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ъемы предпосевной обработки семян сельскохозяйственных культур в Красноярск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1547640" y="1052640"/>
            <a:ext cx="54007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1-2021 годах, тыс. тон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700360" y="4723920"/>
            <a:ext cx="345600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21 году в разрезе культур, 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403280" y="5084640"/>
          <a:ext cx="6121440" cy="1729080"/>
        </p:xfrm>
        <a:graphic>
          <a:graphicData uri="http://schemas.openxmlformats.org/drawingml/2006/table">
            <a:tbl>
              <a:tblPr/>
              <a:tblGrid>
                <a:gridCol w="3060720"/>
                <a:gridCol w="3060720"/>
              </a:tblGrid>
              <a:tr h="31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ультура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% к высеянным</a:t>
                      </a:r>
                      <a:endParaRPr b="0" i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ровая пшеница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чмень 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1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е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9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8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ернобобовые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6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пс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88" name="Диаграмма 8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83600" cy="3462480"/>
          </a:xfrm>
          <a:prstGeom prst="rect">
            <a:avLst/>
          </a:prstGeom>
          <a:ln w="0">
            <a:noFill/>
          </a:ln>
        </p:spPr>
      </p:pic>
      <p:sp>
        <p:nvSpPr>
          <p:cNvPr id="689" name="Номер слайда 6"/>
          <p:cNvSpPr/>
          <p:nvPr/>
        </p:nvSpPr>
        <p:spPr>
          <a:xfrm>
            <a:off x="0" y="6558120"/>
            <a:ext cx="53964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2EE1C-1B98-4AF9-BAA9-E9E40A034180}" type="slidenum">
              <a:rPr b="1" lang="ru-RU" sz="20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2:52:55Z</dcterms:created>
  <dc:creator>Polina</dc:creator>
  <dc:description/>
  <dc:language>en-US</dc:language>
  <cp:lastModifiedBy>Оксана Н. Вебер</cp:lastModifiedBy>
  <dcterms:modified xsi:type="dcterms:W3CDTF">2022-04-12T02:59:40Z</dcterms:modified>
  <cp:revision>1627</cp:revision>
  <dc:subject/>
  <dc:title>Слайд 1</dc:title>
</cp:coreProperties>
</file>